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C86-6567-4F4F-969F-D7C49AA6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724-8285-4000-AF78-F12F7D3E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4CD-B0D5-4F99-A9EF-DD0F0525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AB6-9D1C-4BCC-8B80-B1809E9C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57DC-F80F-43F4-B586-896C15D2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36AD-F3C0-4B52-92A9-B14E665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365-8687-47A0-BB0F-DFF9C41A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966C-C47E-497B-99F4-752B606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38B-D357-4E59-9327-5209B812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6556-CEB5-41C6-8735-620D6DA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1567-C986-4D73-9922-5DD6D28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B6D-87CB-4B0E-82C1-39D5AE00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F6E6-C876-4E27-9595-027266A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DAB-83E4-41CD-A807-4DD2D6D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96B-E430-483B-90BC-955AC688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854-A273-47DA-8C6F-FFB9D28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2325-8EDC-4F39-A027-768FB64F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A9F-3AA6-4EC2-A94F-21763CD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B29-6C36-4B31-8CBA-63D3216A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6F9-8C9A-437E-A55F-C16C8B0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531-0871-4D6F-A471-F97F9E97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D16-B61F-4B1D-82D5-D0A7206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9E8-284C-4544-8DDA-0C7B840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2C3-4E36-48BF-83D9-CA44C64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C48-FC61-41B6-914A-2C3464556D47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86A-B7E3-485B-A03D-CAB9D5F38208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38600" y="907920"/>
            <a:ext cx="345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PPI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what 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(and h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560760"/>
            <a:ext cx="76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Functional connectivit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A way of looking for voxels which may be functionally linked to a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reg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dcbbf"/>
                </a:solidFill>
                <a:latin typeface="Arial"/>
              </a:rPr>
              <a:t>Interaction between psychological context and physiologic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26160" y="914400"/>
            <a:ext cx="351144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1523880"/>
            <a:ext cx="396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1 = your task reg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2 = your ROI time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3 =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4    all your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5    task regr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240" y="27612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 up your PPI in F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666880"/>
            <a:ext cx="75960" cy="83844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6880" y="838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EAT stats t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160" y="4081320"/>
            <a:ext cx="628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“basic shape” drop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EV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e for task reg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for ROI time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hogonalise, temporal derivative, temporal filtering ---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8" idx="0"/>
            <a:endCxn id="138" idx="0"/>
          </p:cNvCxnSpPr>
          <p:nvPr/>
        </p:nvCxnSpPr>
        <p:spPr>
          <a:xfrm flipH="1" rot="16200000">
            <a:off x="2590560" y="1522800"/>
            <a:ext cx="252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7640" y="32004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9040" y="1295280"/>
            <a:ext cx="7311960" cy="1220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28640" y="3032280"/>
            <a:ext cx="7348680" cy="1234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1120" y="4799160"/>
            <a:ext cx="7396200" cy="1220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3049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all those “mean” option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96720" y="0"/>
            <a:ext cx="10082160" cy="7389720"/>
          </a:xfrm>
          <a:prstGeom prst="rect">
            <a:avLst/>
          </a:prstGeom>
          <a:solidFill>
            <a:srgbClr val="00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400" y="29376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A hypothetical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Maze navigation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989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cbbf"/>
                </a:solidFill>
                <a:latin typeface="Arial"/>
              </a:rPr>
              <a:t>Condition of interest: Navigating around a virtual reality 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cbbf"/>
                </a:solidFill>
                <a:latin typeface="Arial"/>
              </a:rPr>
              <a:t>Control condition: Travelling passively through the 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760" y="3398760"/>
            <a:ext cx="8633520" cy="3056400"/>
            <a:chOff x="320760" y="3398760"/>
            <a:chExt cx="8633520" cy="3056400"/>
          </a:xfrm>
        </p:grpSpPr>
        <p:graphicFrame>
          <p:nvGraphicFramePr>
            <p:cNvPr id="89" name=""/>
            <p:cNvGraphicFramePr/>
            <p:nvPr/>
          </p:nvGraphicFramePr>
          <p:xfrm>
            <a:off x="971640" y="3398760"/>
            <a:ext cx="2587680" cy="247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1640" y="3398760"/>
                      <a:ext cx="2587680" cy="24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5427720" y="3429000"/>
            <a:ext cx="2960640" cy="24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27720" y="3429000"/>
                      <a:ext cx="296064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0760" y="6056280"/>
              <a:ext cx="412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Hippocampus </a:t>
              </a:r>
              <a:r>
                <a:rPr b="1" lang="en-US" sz="2000" spc="-1" strike="noStrike">
                  <a:solidFill>
                    <a:srgbClr val="cdcbb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 spatial 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0040" y="6021360"/>
              <a:ext cx="39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dl prefrontal cortex </a:t>
              </a:r>
              <a:r>
                <a:rPr b="1" lang="en-US" sz="2000" spc="-1" strike="noStrike">
                  <a:solidFill>
                    <a:srgbClr val="cdcbbf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cdcbbf"/>
                  </a:solidFill>
                  <a:latin typeface="Arial"/>
                </a:rPr>
                <a:t> pl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20955600">
            <a:off x="2843280" y="4365720"/>
            <a:ext cx="2879640" cy="720720"/>
          </a:xfrm>
          <a:prstGeom prst="leftRightArrow">
            <a:avLst>
              <a:gd name="adj1" fmla="val 50000"/>
              <a:gd name="adj2" fmla="val 79540"/>
            </a:avLst>
          </a:prstGeom>
          <a:solidFill>
            <a:srgbClr val="cdcb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00680" y="333360"/>
            <a:ext cx="7894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cbbf"/>
                </a:solidFill>
                <a:latin typeface="Arial"/>
              </a:rPr>
              <a:t>Key concept of P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If two areas are interacting, their activity will go up and down in 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This effect may be task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It should be more than can be explained by the shared main effect of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49360"/>
          <a:ext cx="3200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3200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042920" y="1773360"/>
            <a:ext cx="73080" cy="7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1773360"/>
            <a:ext cx="73080" cy="7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286080"/>
            <a:ext cx="73080" cy="7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27688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&gt;&gt; fslmeants –i filtered_func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   –</a:t>
            </a:r>
            <a:r>
              <a:rPr b="1" lang="en-GB" sz="1800" spc="-1" strike="noStrike">
                <a:solidFill>
                  <a:srgbClr val="cdcbbf"/>
                </a:solidFill>
                <a:latin typeface="Courier New"/>
              </a:rPr>
              <a:t>o hippocampus.txt –m hpc_mask.nii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603400">
            <a:off x="324000" y="5300640"/>
            <a:ext cx="1944360" cy="1008000"/>
          </a:xfrm>
          <a:custGeom>
            <a:avLst/>
            <a:gdLst>
              <a:gd name="textAreaLeft" fmla="*/ 340200 w 1944360"/>
              <a:gd name="textAreaRight" fmla="*/ 1409760 w 1944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082400">
            <a:off x="7306920" y="5229360"/>
            <a:ext cx="1944720" cy="100800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03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38960" y="1297080"/>
            <a:ext cx="855720" cy="41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83120" y="1617840"/>
            <a:ext cx="28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dcbb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cdcbbf"/>
                </a:solidFill>
                <a:latin typeface="Arial"/>
              </a:rPr>
              <a:t>Look for all the voxels in which the level of activity is well explained by the level of activity in the hippocampus RO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40520" y="1951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cbbf"/>
                </a:solidFill>
                <a:latin typeface="Arial"/>
              </a:rPr>
              <a:t>PPI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26028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ome brain areas will have a similar time-course to the seed area </a:t>
            </a:r>
            <a:r>
              <a:rPr b="1" i="1" lang="en-GB" sz="2400" spc="-1" strike="noStrike">
                <a:solidFill>
                  <a:srgbClr val="cdcbbf"/>
                </a:solidFill>
                <a:latin typeface="Arial"/>
              </a:rPr>
              <a:t>regardless of what task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participants ar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hared sub-cortical or neuro-modulator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Shared sensor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dcb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dcbbf"/>
                </a:solidFill>
                <a:latin typeface="Arial"/>
              </a:rPr>
              <a:t>Anatomic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24360" y="3470400"/>
            <a:ext cx="3384720" cy="2406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280" y="3530520"/>
            <a:ext cx="3448080" cy="2778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90972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2920" y="912960"/>
            <a:ext cx="5905440" cy="44258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990720" y="1600200"/>
            <a:ext cx="2205000" cy="2944800"/>
            <a:chOff x="990720" y="1600200"/>
            <a:chExt cx="2205000" cy="2944800"/>
          </a:xfrm>
        </p:grpSpPr>
        <p:sp>
          <p:nvSpPr>
            <p:cNvPr id="117" name=""/>
            <p:cNvSpPr/>
            <p:nvPr/>
          </p:nvSpPr>
          <p:spPr>
            <a:xfrm>
              <a:off x="990720" y="1600200"/>
              <a:ext cx="220500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Y main effec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task variab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2721960"/>
              <a:ext cx="204732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 main eff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time-course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ed reg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3984120"/>
              <a:ext cx="220500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I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Y.*PHY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05360" y="2301120"/>
              <a:ext cx="78732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3040" y="3563280"/>
              <a:ext cx="314640" cy="420480"/>
            </a:xfrm>
            <a:prstGeom prst="downArrow">
              <a:avLst>
                <a:gd name="adj1" fmla="val 38889"/>
                <a:gd name="adj2" fmla="val 383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01960" y="30780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 use a ‘psychophysiological interaction’ regr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9640" y="4897440"/>
            <a:ext cx="8136000" cy="1700280"/>
            <a:chOff x="539640" y="4897440"/>
            <a:chExt cx="8136000" cy="1700280"/>
          </a:xfrm>
        </p:grpSpPr>
        <p:graphicFrame>
          <p:nvGraphicFramePr>
            <p:cNvPr id="124" name=""/>
            <p:cNvGraphicFramePr/>
            <p:nvPr/>
          </p:nvGraphicFramePr>
          <p:xfrm>
            <a:off x="2147760" y="4897440"/>
            <a:ext cx="6527880" cy="17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47760" y="4897440"/>
                      <a:ext cx="6527880" cy="17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1045440" y="566100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erla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5013360"/>
              <a:ext cx="799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5280" y="3597120"/>
            <a:ext cx="8353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1280" y="981000"/>
            <a:ext cx="8353440" cy="1656000"/>
            <a:chOff x="611280" y="981000"/>
            <a:chExt cx="8353440" cy="1656000"/>
          </a:xfrm>
        </p:grpSpPr>
        <p:sp>
          <p:nvSpPr>
            <p:cNvPr id="130" name=""/>
            <p:cNvSpPr/>
            <p:nvPr/>
          </p:nvSpPr>
          <p:spPr>
            <a:xfrm>
              <a:off x="611280" y="981000"/>
              <a:ext cx="83534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58920" y="234936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4195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640" y="2602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Caveat: covariates of no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cbb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dcbbf"/>
                </a:solidFill>
                <a:latin typeface="Arial"/>
              </a:rPr>
              <a:t>Must include main effects (PSY and PHYS) i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2880" y="6021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bbf"/>
                </a:solidFill>
                <a:latin typeface="Arial"/>
              </a:rPr>
              <a:t>Desig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752480"/>
            <a:ext cx="7086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ations for running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pothesis dr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ust choose seed region and task EV a-pri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don’t have a hypothesis (!), or even if you 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t can be helpful to run MELODIC on group data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LODIC gives you an idea of the different functiona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NETWORKS in you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OIs from MELODIC blobs might work better as PPI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ee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uld only use block designs (deconvolution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2057400"/>
            <a:ext cx="7467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ose your seed ROI and make m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anatomical or based on foci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y from GLM or MELOD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act time-course wit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slme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into FEAT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1:49:47Z</dcterms:created>
  <dc:creator>joreilly</dc:creator>
  <dc:description/>
  <dc:language>en-US</dc:language>
  <cp:lastModifiedBy>FMRIB</cp:lastModifiedBy>
  <dcterms:modified xsi:type="dcterms:W3CDTF">2008-11-17T09:20:24Z</dcterms:modified>
  <cp:revision>38</cp:revision>
  <dc:subject/>
  <dc:title>Slide 1</dc:title>
</cp:coreProperties>
</file>